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931527"/>
        <c:axId val="16407109"/>
      </c:barChart>
      <c:catAx>
        <c:axId val="239315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07109"/>
        <c:crosses val="autoZero"/>
        <c:auto val="1"/>
        <c:lblAlgn val="ctr"/>
        <c:lblOffset val="100"/>
        <c:noMultiLvlLbl val="0"/>
      </c:catAx>
      <c:valAx>
        <c:axId val="164071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315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1C8C-13CA-4981-8F1C-6CE1A682B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DB57-1DAB-48AD-B554-DD1C50A0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26E0-3D48-4F1A-87E7-A0FECA35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553A-796D-4B49-B4A7-D0D8981F8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CBB8-B5B7-4E46-89AC-28D2C242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1EC4-82B2-41C6-924D-A55357EE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9F86-75DC-4148-8FF6-08693EFC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2D9B-E1A4-44F4-BF35-4DF4C039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44B3-78CE-49AB-AE79-249D89EB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5843-82C3-4F84-84FE-70FF20FF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5769-31D0-43C5-BA17-A66DDF23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09D7-07DC-4478-A3AE-E0840645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1B1FE-4E1E-4078-886B-DBCED7E83D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