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95688"/>
        <c:axId val="30522535"/>
      </c:barChart>
      <c:catAx>
        <c:axId val="93695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22535"/>
        <c:crosses val="autoZero"/>
        <c:auto val="1"/>
        <c:lblAlgn val="ctr"/>
        <c:lblOffset val="100"/>
        <c:noMultiLvlLbl val="0"/>
      </c:catAx>
      <c:valAx>
        <c:axId val="30522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95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048-1F20-4291-A386-4B2D4F8F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6D0-99E1-48F7-84F9-1541483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5A3-A850-42C9-8FAE-0AA75F10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5CB-E2F7-4C3B-97CB-9289F899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DD8-C323-474C-B1FB-2EF6C0E7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E2B-C320-481E-B635-C112A408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21B-3408-4016-B188-C1003E79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CE7-6585-485F-9B35-E2969231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128-6CD6-4913-A2EE-B2CC054B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A60-AD18-41C8-B96B-7EA54880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E78-EC83-4EBA-B5B1-2404004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100-ADA6-4AD8-AC7C-6312167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BF5E2-AF3D-4942-90BE-955D643316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