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46120"/>
        <c:axId val="82009430"/>
      </c:barChart>
      <c:catAx>
        <c:axId val="42646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09430"/>
        <c:crosses val="autoZero"/>
        <c:auto val="1"/>
        <c:lblAlgn val="ctr"/>
        <c:lblOffset val="100"/>
        <c:noMultiLvlLbl val="0"/>
      </c:catAx>
      <c:valAx>
        <c:axId val="82009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46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D1B-C6C0-4AC0-BAA8-09273BE7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530-DCF9-4322-8DDB-F08BB1F2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25A-1408-45D9-A733-2656BC91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F2B-7A9D-4F28-991B-E7A50062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553-C340-4902-A275-4242E0CD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63C-25C3-40E6-985D-89B8C53E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1BD-B02B-4073-A642-EBE5A46E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969-8FCB-49ED-959E-01E65038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E90-EF9F-4C58-A094-62904E79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4AB-FE00-4DF9-934C-92E7909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F62-3BC6-4728-8047-E1ED559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152-8507-478C-A786-1B986EAE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6A47B-BB5C-4520-859C-70B6D5655A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