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271283"/>
        <c:axId val="67664603"/>
      </c:barChart>
      <c:catAx>
        <c:axId val="902712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664603"/>
        <c:crosses val="autoZero"/>
        <c:auto val="1"/>
        <c:lblAlgn val="ctr"/>
        <c:lblOffset val="100"/>
        <c:noMultiLvlLbl val="0"/>
      </c:catAx>
      <c:valAx>
        <c:axId val="676646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2712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BB20-8919-4B5E-AEA3-52E90236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DEC-809A-4C78-B0A0-23D3326FA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A20-20AE-4458-9F74-D9FFDAB05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14BF-E00A-4704-B400-811DFE7F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1955-971A-4BF9-9136-0F935FFBF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F2F0-3BDA-4245-9586-BED74138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3A75-B7EA-4465-8D7A-1B12E3B6C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91A0-1710-49DF-A937-7DD8B8116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D719-D8C0-4493-95D8-3F52A518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474B-474E-4366-946B-ABE6FE8F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497-A138-4BC4-898F-9C1150A73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754D-7F36-4AD1-B0B0-C34F58930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34D5ED-D753-49F0-9E60-D20636C71D8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